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262960" y="63054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Formation Développ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Page : </a:t>
            </a:r>
            <a:fld id="{480EB20E-4285-474A-BD04-07A7BD1AB516}" type="slidenum"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9040" y="601020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798720"/>
            <a:ext cx="41036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7628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95280" y="5300280"/>
            <a:ext cx="51469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480" y="177840"/>
            <a:ext cx="2199960" cy="13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32000" y="5013000"/>
            <a:ext cx="6896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epository.silverpeas.org/sdk/archetype-catalog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Formation Développeu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43200" y="530064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2ème partie : le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aven Arche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talogue 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qui contient deux modèles de peas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vec EJB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ans EJ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0360" y="4005360"/>
            <a:ext cx="821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ssemb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projet sous Subversion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OM décrivant l'ensemble des services à mettre en place dans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dépendant de la plate-forme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995920" y="3933720"/>
            <a:ext cx="385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outils nécessaires à la production de Silverpea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b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Setting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a configura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résultats  de la construc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struire un compos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229360"/>
            <a:ext cx="640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Les différente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Génération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Télécharger le fichier catalog.xml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xécuter la commande 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paramètres sont les suivants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classNam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 en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group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i="1" lang="fr-FR" sz="1800" spc="-1" strike="noStrike">
                <a:solidFill>
                  <a:srgbClr val="808080"/>
                </a:solidFill>
                <a:latin typeface="Verdana"/>
              </a:rPr>
              <a:t>com.silverpeas.compon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artifact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version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a version initial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packag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package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52800"/>
            <a:ext cx="87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2044800"/>
            <a:ext cx="593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uilder le compo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3374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déploi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Tout se fait dans le projet assembly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fichi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Ajouter les 3 module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jb/j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confi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w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xécuter la commande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065400" y="5013360"/>
            <a:ext cx="348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0160" y="2421000"/>
            <a:ext cx="557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ssembly/pom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39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L’application buil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797360"/>
            <a:ext cx="6400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Principe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a con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 u="sng">
                <a:solidFill>
                  <a:srgbClr val="808080"/>
                </a:solidFill>
                <a:uFillTx/>
                <a:latin typeface="Verdana"/>
              </a:rPr>
              <a:t>L’application builder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Fonction :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nstruire le fichier EAR et la librairie cliente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tilisation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silverpeasSettings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app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db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Objectifs de la 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5013000"/>
            <a:ext cx="6897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besoins du développeur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sur l’intégratio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des API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Formation s’adressant à tout utilisateur ayant vocation à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évelopper un component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tégrer un component dan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Objectifs de cette formation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mprendre le fonctionnement du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stallation d’un poste de développem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enu du SDK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’Application Builder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tapes pour construire un compon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46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Instal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91652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11560" indent="-321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1441160"/>
                <a:tab algn="l" pos="12355560"/>
                <a:tab algn="l" pos="132699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programme d’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es différentes parties à install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JD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ache Mav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serveur d’application JBo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 Development K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émon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212640"/>
            <a:ext cx="4608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lace à l'installation …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tenu du SD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021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Structure des 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Configurer Maven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tings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484280"/>
            <a:ext cx="72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ettings&gt;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 Nexu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name&gt;Silverpeas Nexus Public Mirr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url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http://repository.silverpeas.org/nexus/content/groups/public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ur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Of&gt;*&lt;/mirrorO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ilverpeas.home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C:/Silverpeas/KMEdition/P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ilverpeas.h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&gt;Silverpeas&lt;/active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etting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2:22:04Z</dcterms:created>
  <dc:creator/>
  <dc:description/>
  <dc:language>en-US</dc:language>
  <cp:lastModifiedBy>Emmanuel Hugonnet</cp:lastModifiedBy>
  <dcterms:modified xsi:type="dcterms:W3CDTF">2009-08-10T14:20:31Z</dcterms:modified>
  <cp:revision>51</cp:revision>
  <dc:subject/>
  <dc:title>Présentation PowerPoint</dc:title>
</cp:coreProperties>
</file>